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0.png" ContentType="image/png"/>
  <Override PartName="/ppt/media/image6.jpeg" ContentType="image/jpeg"/>
  <Override PartName="/ppt/media/image9.jpeg" ContentType="image/jpeg"/>
  <Override PartName="/ppt/media/PROJKTOR.WAV" ContentType="audio/x-wav"/>
  <Override PartName="/ppt/media/image11.jpeg" ContentType="image/jpeg"/>
  <Override PartName="/ppt/media/KASSE.WAV" ContentType="audio/x-wav"/>
  <Override PartName="/ppt/media/image7.jpeg" ContentType="image/jpeg"/>
  <Override PartName="/ppt/media/image20.png" ContentType="image/png"/>
  <Override PartName="/ppt/media/image4.jpeg" ContentType="image/jpeg"/>
  <Override PartName="/ppt/media/image2.jpeg" ContentType="image/jpeg"/>
  <Override PartName="/ppt/media/image8.jpeg" ContentType="image/jpeg"/>
  <Override PartName="/ppt/media/APPLAUS.WAV" ContentType="audio/x-wav"/>
  <Override PartName="/ppt/media/SCHREIBM.WAV" ContentType="audio/x-wav"/>
  <Override PartName="/ppt/media/image5.jpeg" ContentType="image/jpeg"/>
  <Override PartName="/ppt/media/image18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TROMMEL.WAV" ContentType="audio/x-wav"/>
  <Override PartName="/ppt/media/image19.jpeg" ContentType="image/jpeg"/>
  <Override PartName="/ppt/media/image15.jpeg" ContentType="image/jpeg"/>
  <Override PartName="/ppt/media/image14.jpeg" ContentType="image/jpeg"/>
  <Override PartName="/ppt/media/image13.png" ContentType="image/png"/>
  <Override PartName="/ppt/media/image12.wmf" ContentType="image/x-wmf"/>
  <Override PartName="/ppt/media/image1.png" ContentType="image/png"/>
  <Override PartName="/ppt/media/image3.jpeg" ContentType="image/jpeg"/>
  <Override PartName="/ppt/media/K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B5B-AA0E-4E73-A6BE-6E09AB16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001-B55D-4740-823A-C572E840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4A9-F108-4390-9ED0-8A1A7D91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F14-FA16-446E-BB43-F33639BE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3471-C03F-4ACD-9932-0B2238B2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AB8C-6003-4ADB-A910-72EBFFEB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54E0-B55E-4D97-AC84-1DC2ED7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63CD-E2BE-41B4-8C22-C49ACCDA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DE17-1CE3-4530-ADF6-29D9C6F8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AE56-4C95-482D-B858-9BBA7C49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D75-66F5-4DCA-BECF-EEC55A01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B84-54FB-409F-B527-79F8E249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49F7-BAF0-45EA-94EC-02FC73B1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95AF-1874-4ECA-943F-0DE6891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137D-1F64-428F-9D78-07FEA20D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08A8-5956-4D7A-89BC-378AFA1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2291-D4E0-4536-B1EC-97E972CE2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98A-F79A-4057-9F50-65E8FBBF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FC1-747B-467A-84DC-8A794FC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78F-C378-4BE2-ABA9-2E7335AC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5EB1-73E6-4EEB-AA4C-1DFA0DAA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4B3-5EB5-46A5-951C-DB79393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F41-CA73-4124-B3E0-17E95FA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376-D23B-409A-84BB-8043D90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6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753A-42DD-42AF-A707-700CD90050E7}" type="slidenum">
              <a:rPr b="0" lang="de-DE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006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3F34-E8A1-4D0A-8FB7-B93EE1712545}" type="slidenum">
              <a:rPr b="0" lang="de-DE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KAMERA.WAV"/><Relationship Id="rId4" Type="http://schemas.openxmlformats.org/officeDocument/2006/relationships/audio" Target="../media/SCHREIBM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SCHREIBM.WAV"/><Relationship Id="rId5" Type="http://schemas.openxmlformats.org/officeDocument/2006/relationships/audio" Target="../media/SCHREIBM.WAV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SCHREIBM.WAV"/><Relationship Id="rId7" Type="http://schemas.openxmlformats.org/officeDocument/2006/relationships/audio" Target="../media/KAMERA.WAV"/><Relationship Id="rId8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KAMERA.WAV"/><Relationship Id="rId3" Type="http://schemas.openxmlformats.org/officeDocument/2006/relationships/audio" Target="../media/SCHREIBM.WAV"/><Relationship Id="rId4" Type="http://schemas.openxmlformats.org/officeDocument/2006/relationships/audio" Target="../media/SCHREIBM.WAV"/><Relationship Id="rId5" Type="http://schemas.openxmlformats.org/officeDocument/2006/relationships/audio" Target="../media/SCHREIBM.WAV"/><Relationship Id="rId6" Type="http://schemas.openxmlformats.org/officeDocument/2006/relationships/audio" Target="../media/SCHREIBM.WAV"/><Relationship Id="rId7" Type="http://schemas.openxmlformats.org/officeDocument/2006/relationships/audio" Target="../media/SCHREIBM.WAV"/><Relationship Id="rId8" Type="http://schemas.openxmlformats.org/officeDocument/2006/relationships/audio" Target="../media/SCHREIBM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KAMERA.WAV"/><Relationship Id="rId4" Type="http://schemas.openxmlformats.org/officeDocument/2006/relationships/audio" Target="../media/TROMMEL.WAV"/><Relationship Id="rId5" Type="http://schemas.openxmlformats.org/officeDocument/2006/relationships/audio" Target="../media/PROJKTOR.WAV"/><Relationship Id="rId6" Type="http://schemas.openxmlformats.org/officeDocument/2006/relationships/audio" Target="../media/KASSE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AMERA.WAV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KAMERA.WAV"/><Relationship Id="rId4" Type="http://schemas.openxmlformats.org/officeDocument/2006/relationships/audio" Target="../media/TROMMEL.WAV"/><Relationship Id="rId5" Type="http://schemas.openxmlformats.org/officeDocument/2006/relationships/audio" Target="../media/KAMERA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APPLAUS.WAV"/><Relationship Id="rId5" Type="http://schemas.openxmlformats.org/officeDocument/2006/relationships/audio" Target="../media/SCHREIBM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KAMERA.WAV"/><Relationship Id="rId3" Type="http://schemas.openxmlformats.org/officeDocument/2006/relationships/audio" Target="../media/SCHREIBM.WAV"/><Relationship Id="rId4" Type="http://schemas.openxmlformats.org/officeDocument/2006/relationships/audio" Target="../media/KAMERA.WAV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SCHREIBM.WAV"/><Relationship Id="rId6" Type="http://schemas.openxmlformats.org/officeDocument/2006/relationships/audio" Target="../media/SCHREIBM.WAV"/><Relationship Id="rId7" Type="http://schemas.openxmlformats.org/officeDocument/2006/relationships/audio" Target="../media/KAMERA.WAV"/><Relationship Id="rId8" Type="http://schemas.openxmlformats.org/officeDocument/2006/relationships/audio" Target="../media/SCHREIBM.WAV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PROJKTOR.WAV"/><Relationship Id="rId6" Type="http://schemas.openxmlformats.org/officeDocument/2006/relationships/audio" Target="../media/PROJKTOR.WAV"/><Relationship Id="rId7" Type="http://schemas.openxmlformats.org/officeDocument/2006/relationships/audio" Target="../media/PROJKTOR.WAV"/><Relationship Id="rId8" Type="http://schemas.openxmlformats.org/officeDocument/2006/relationships/audio" Target="../media/PROJKTO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PROJKTOR.WAV"/><Relationship Id="rId5" Type="http://schemas.openxmlformats.org/officeDocument/2006/relationships/audio" Target="../media/PROJKTOR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KAMERA.WAV"/><Relationship Id="rId3" Type="http://schemas.openxmlformats.org/officeDocument/2006/relationships/audio" Target="../media/KAMERA.WAV"/><Relationship Id="rId4" Type="http://schemas.openxmlformats.org/officeDocument/2006/relationships/audio" Target="../media/PROJKTOR.WAV"/><Relationship Id="rId5" Type="http://schemas.openxmlformats.org/officeDocument/2006/relationships/audio" Target="../media/PROJKTOR.WAV"/><Relationship Id="rId6" Type="http://schemas.openxmlformats.org/officeDocument/2006/relationships/audio" Target="../media/PROJKTOR.WAV"/><Relationship Id="rId7" Type="http://schemas.openxmlformats.org/officeDocument/2006/relationships/audio" Target="../media/PROJKTOR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SCHREIBM.WAV"/><Relationship Id="rId6" Type="http://schemas.openxmlformats.org/officeDocument/2006/relationships/audio" Target="../media/KAMERA.WAV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KAMERA.WAV"/><Relationship Id="rId4" Type="http://schemas.openxmlformats.org/officeDocument/2006/relationships/audio" Target="../media/KAMERA.WAV"/><Relationship Id="rId5" Type="http://schemas.openxmlformats.org/officeDocument/2006/relationships/audio" Target="../media/KAMERA.WAV"/><Relationship Id="rId6" Type="http://schemas.openxmlformats.org/officeDocument/2006/relationships/audio" Target="../media/KAMERA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56040" y="5710320"/>
            <a:ext cx="217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00"/>
                </a:solidFill>
                <a:latin typeface="Tahoma"/>
              </a:rPr>
              <a:t>Präsentiert von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00"/>
                </a:solidFill>
                <a:latin typeface="Tahoma"/>
              </a:rPr>
              <a:t>Adalbert Zwirchmay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889600" y="4748040"/>
          <a:ext cx="1974960" cy="8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0" y="4748040"/>
                    <a:ext cx="197496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53680" y="291600"/>
            <a:ext cx="831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0066"/>
                </a:solidFill>
                <a:latin typeface="Tahoma"/>
              </a:rPr>
              <a:t>Nutzen</a:t>
            </a: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 bei der Z-Schiffsschraub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96400" y="5126040"/>
            <a:ext cx="75438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Ca. 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25%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mehr Leistu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Weniger Kavitation + Lärm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85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624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Der Beweis als Meßdat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31800" y="1881360"/>
            <a:ext cx="81504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Resselschraube: Input </a:t>
            </a: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10,67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Watt,  Schub   </a:t>
            </a: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75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Z-Schraube:       Input </a:t>
            </a: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10,56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Watt,  Schub </a:t>
            </a: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105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33320" y="3282840"/>
          <a:ext cx="8067960" cy="26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3282840"/>
                    <a:ext cx="806796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5000">
    <p:blinds dir="vert"/>
    <p:sndAc>
      <p:stSnd>
        <p:snd r:embed="rId3" name="KAMERA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3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964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cc"/>
                </a:solidFill>
                <a:latin typeface="Tahoma"/>
              </a:rPr>
              <a:t>Der Z-Luftpropelle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96880" y="1723680"/>
            <a:ext cx="6400800" cy="81900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Im Detai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733400" y="4738680"/>
            <a:ext cx="5500800" cy="15638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4" name="KAMERA.WAV"/>
      </p:stSnd>
    </p:sndAc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75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1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Das Aussehen im Verglei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7880" y="2208240"/>
            <a:ext cx="3736800" cy="237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3680" y="2193840"/>
            <a:ext cx="3778200" cy="239076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  <p:sndAc>
      <p:stSnd>
        <p:snd r:embed="rId3" name="KAMERA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0600" y="2376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0066"/>
                </a:solidFill>
                <a:latin typeface="Tahoma"/>
              </a:rPr>
              <a:t>Nutzen</a:t>
            </a: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 beim Z-Propeller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79120" y="4578120"/>
            <a:ext cx="7543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Ca. 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40%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mehr Leistu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ctr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Weniger Lärm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26640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Der Beweis als Meßdat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393920" y="1592280"/>
            <a:ext cx="621972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2 Blatt</a:t>
            </a:r>
            <a:r>
              <a:rPr b="0" lang="de-DE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3000" spc="-1" strike="noStrike">
                <a:solidFill>
                  <a:srgbClr val="33cccc"/>
                </a:solidFill>
                <a:latin typeface="Tahoma"/>
              </a:rPr>
              <a:t>Schwarz: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  Input 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106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Watt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2 Blatt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 Z- Rot: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     Input   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57</a:t>
            </a: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 Watt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Output beide </a:t>
            </a: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700</a:t>
            </a:r>
            <a:r>
              <a:rPr b="0" lang="de-DE" sz="3000" spc="-1" strike="noStrike">
                <a:solidFill>
                  <a:srgbClr val="ffffff"/>
                </a:solidFill>
                <a:latin typeface="Tahoma"/>
              </a:rPr>
              <a:t> Gramm Schub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828800" y="3403440"/>
          <a:ext cx="5556240" cy="286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03440"/>
                    <a:ext cx="5556240" cy="28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5000">
    <p:blinds dir="vert"/>
    <p:sndAc>
      <p:stSnd>
        <p:snd r:embed="rId3" name="KAMERA.WAV"/>
      </p:stSnd>
    </p:sndAc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100"/>
                            </p:stCondLst>
                            <p:childTnLst>
                              <p:par>
                                <p:cTn id="24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0000ff"/>
                </a:solidFill>
                <a:latin typeface="Tahoma"/>
              </a:rPr>
              <a:t>Die Zeit ist reif...</a:t>
            </a:r>
            <a:br>
              <a:rPr sz="4200"/>
            </a:br>
            <a:r>
              <a:rPr b="0" lang="de-DE" sz="4200" spc="-1" strike="noStrike">
                <a:solidFill>
                  <a:srgbClr val="0000ff"/>
                </a:solidFill>
                <a:latin typeface="Tahoma"/>
              </a:rPr>
              <a:t>...verwenden Sie diese</a:t>
            </a: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de-DE" sz="4200" spc="-1" strike="noStrike">
                <a:solidFill>
                  <a:srgbClr val="ff0066"/>
                </a:solidFill>
                <a:latin typeface="Tahoma"/>
              </a:rPr>
              <a:t>Innov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95440" y="2901960"/>
            <a:ext cx="699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Ihr Nutzen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ff"/>
                </a:solidFill>
                <a:latin typeface="Tahoma"/>
              </a:rPr>
              <a:t>Mehr Wirku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33cccc"/>
                </a:solidFill>
                <a:latin typeface="Tahoma"/>
              </a:rPr>
              <a:t>Ansprechendes Design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Bedeutender Technologievorsprung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Bessere Marktchancen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5000">
    <p:blinds dir="vert"/>
    <p:sndAc>
      <p:stSnd>
        <p:snd r:embed="rId2" name="KAMERA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6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275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75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1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75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525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75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285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75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9560" y="617040"/>
            <a:ext cx="73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cc"/>
                </a:solidFill>
                <a:latin typeface="Tahoma"/>
              </a:rPr>
              <a:t>Ergebnis zum Schluß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74800" y="1934640"/>
            <a:ext cx="801360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cc"/>
                </a:solidFill>
                <a:latin typeface="Tahoma"/>
              </a:rPr>
              <a:t>Verwirklichen Sie diese Idee in einer gemeinsamen Zusammenarbeit!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52480" y="4575240"/>
            <a:ext cx="73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66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0066"/>
                </a:solidFill>
                <a:latin typeface="Tahoma"/>
              </a:rPr>
              <a:t>Der Gewinner ist Ihr Unternehmen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10000">
    <p:blinds dir="vert"/>
    <p:sndAc>
      <p:stSnd>
        <p:snd r:embed="rId3" name="KAMERA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ROMM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85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S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84160" y="741240"/>
            <a:ext cx="7272360" cy="5292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262400" y="4816440"/>
            <a:ext cx="42228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cc"/>
                </a:solidFill>
                <a:latin typeface="Tahoma"/>
              </a:rPr>
              <a:t>Visionen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10000">
    <p:blinds dir="vert"/>
    <p:sndAc>
      <p:stSnd>
        <p:snd r:embed="rId3" name="KAMERA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ROMM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7240" y="1176480"/>
            <a:ext cx="7797960" cy="3911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44640" y="5629320"/>
            <a:ext cx="72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de-DE" sz="3000" spc="-1" strike="noStrike">
                <a:solidFill>
                  <a:srgbClr val="ffffcc"/>
                </a:solidFill>
                <a:latin typeface="Tahoma"/>
              </a:rPr>
              <a:t>Vielen Dank für Ihre Aufmerksamkeit!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27680" y="6251400"/>
            <a:ext cx="21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cc"/>
                </a:solidFill>
                <a:latin typeface="Tahoma"/>
              </a:rPr>
              <a:t>Adalbert Zwirchmayr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30000">
    <p:blinds dir="vert"/>
    <p:sndAc>
      <p:stSnd>
        <p:snd r:embed="rId2" name="KAMERA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75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151600" y="4264200"/>
            <a:ext cx="289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00"/>
                </a:solidFill>
                <a:latin typeface="Tahoma"/>
              </a:rPr>
              <a:t>Neue Wege</a:t>
            </a:r>
            <a:r>
              <a:rPr b="0" lang="de-DE" sz="3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5000">
    <p:blinds dir="vert"/>
    <p:sndAc>
      <p:stSnd>
        <p:snd r:embed="rId2" name="K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3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5880" y="933120"/>
            <a:ext cx="5454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0066"/>
                </a:solidFill>
                <a:latin typeface="Tahoma"/>
              </a:rPr>
              <a:t>Innovation</a:t>
            </a:r>
            <a:br>
              <a:rPr sz="6000"/>
            </a:br>
            <a:br>
              <a:rPr sz="4800"/>
            </a:br>
            <a:r>
              <a:rPr b="0" lang="de-DE" sz="4800" spc="-1" strike="noStrike">
                <a:solidFill>
                  <a:srgbClr val="ffff00"/>
                </a:solidFill>
                <a:latin typeface="Tahoma"/>
              </a:rPr>
              <a:t>Z-Schraub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1520" y="5330880"/>
            <a:ext cx="50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cc"/>
                </a:solidFill>
                <a:latin typeface="Tahoma"/>
              </a:rPr>
              <a:t>für Schiffe und Flugzeu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8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9320" y="431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Die Ressel Schraub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6480" y="2979720"/>
            <a:ext cx="24382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ffffcc"/>
                </a:solidFill>
                <a:latin typeface="Tahoma"/>
              </a:rPr>
              <a:t>1826</a:t>
            </a:r>
            <a:r>
              <a:rPr b="0" lang="de-DE" sz="8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106800" y="3238560"/>
            <a:ext cx="5094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cc"/>
                </a:solidFill>
                <a:latin typeface="Tahoma"/>
              </a:rPr>
              <a:t>hat Joseph Ressel  1793 - 1857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cc"/>
                </a:solidFill>
                <a:latin typeface="Tahoma"/>
              </a:rPr>
              <a:t>die Schiffsschraube erfunden</a:t>
            </a:r>
            <a:r>
              <a:rPr b="0" lang="de-DE" sz="2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2000" y="5815080"/>
            <a:ext cx="51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cc"/>
                </a:solidFill>
                <a:latin typeface="Tahoma"/>
              </a:rPr>
              <a:t>Von Beruf war er Forstmann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2480" y="4773600"/>
            <a:ext cx="1974960" cy="157176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  <p:sndAc>
      <p:stSnd>
        <p:snd r:embed="rId2" name="KAMERA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1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9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925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21160" y="212760"/>
            <a:ext cx="3592800" cy="2693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84284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Ressel und </a:t>
            </a:r>
            <a:br>
              <a:rPr sz="4200"/>
            </a:b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Schauberger </a:t>
            </a:r>
            <a:r>
              <a:rPr b="0" lang="de-DE" sz="2000" spc="-1" strike="noStrike">
                <a:solidFill>
                  <a:srgbClr val="ffffcc"/>
                </a:solidFill>
                <a:latin typeface="Tahoma"/>
              </a:rPr>
              <a:t>(1885-1958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000" y="3543120"/>
            <a:ext cx="868176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8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Seither hat sich an der Form nichts Wesentliches geändert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18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Viktor Schauberger war auch Forstmann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18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Sein Vorwurf war: </a:t>
            </a: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„Ihr bewegt verkehrt!“</a:t>
            </a: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, auch das Fluid bei der Resselschraube!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18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66"/>
                </a:solidFill>
                <a:latin typeface="Tahoma"/>
              </a:rPr>
              <a:t>Sein Vorschlag war : </a:t>
            </a:r>
            <a:r>
              <a:rPr b="0" lang="de-DE" sz="2400" spc="-1" strike="noStrike">
                <a:solidFill>
                  <a:srgbClr val="ffffcc"/>
                </a:solidFill>
                <a:latin typeface="Tahoma"/>
              </a:rPr>
              <a:t>„Die Natur kapieren und kopieren!“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75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3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4475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iterate type="lt">
                                    <p:tmAbs val="139.36169815063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Kapier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0066"/>
                </a:solidFill>
                <a:latin typeface="Tahoma"/>
              </a:rPr>
              <a:t>Die Schiffsschraube und der Propeller sind Kopien des Ahornsamens.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Der Ahornsamen soll durch Schwerkraft angetrieben werden und durch hohen Luftwiderstand möglichst weit fliegen.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85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75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Kopier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Umgekehrt sollen Schraube und Propeller das Medium bewegen!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21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Tahoma"/>
              </a:rPr>
              <a:t>Darum empfehle ich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en Prozeß umzukehren, … </a:t>
            </a:r>
            <a:r>
              <a:rPr b="0" lang="de-DE" sz="2800" spc="-1" strike="noStrike">
                <a:solidFill>
                  <a:srgbClr val="ffff00"/>
                </a:solidFill>
                <a:latin typeface="Tahoma"/>
              </a:rPr>
              <a:t>nämlich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66"/>
                </a:solidFill>
                <a:latin typeface="Tahoma"/>
              </a:rPr>
              <a:t>Drehrichtung und Form zu ändern!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advTm="10000">
    <p:blinds dir="vert"/>
    <p:sndAc>
      <p:stSnd>
        <p:snd r:embed="rId2" name="K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75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4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75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K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75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548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cc"/>
                </a:solidFill>
                <a:latin typeface="Tahoma"/>
              </a:rPr>
              <a:t>Die Z-Schiffsschraub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31800" y="5446800"/>
            <a:ext cx="6400800" cy="8539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00"/>
                </a:solidFill>
                <a:latin typeface="Tahoma"/>
              </a:rPr>
              <a:t>Im Detail</a:t>
            </a:r>
            <a:endParaRPr b="0" lang="en-US" sz="3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62640" y="4819680"/>
            <a:ext cx="2521080" cy="1803240"/>
          </a:xfrm>
          <a:prstGeom prst="rect">
            <a:avLst/>
          </a:prstGeom>
          <a:ln w="0">
            <a:noFill/>
          </a:ln>
        </p:spPr>
      </p:pic>
    </p:spTree>
  </p:cSld>
  <p:transition advTm="5000">
    <p:blinds dir="vert"/>
    <p:sndAc>
      <p:stSnd>
        <p:snd r:embed="rId3" name="KAMERA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HREIB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3320" y="678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ffffcc"/>
                </a:solidFill>
                <a:latin typeface="Tahoma"/>
              </a:rPr>
              <a:t>Das Aussehen im Vergleic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2200" y="2286000"/>
            <a:ext cx="303372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flipH="1">
            <a:off x="990720" y="2286000"/>
            <a:ext cx="3047760" cy="3624120"/>
          </a:xfrm>
          <a:prstGeom prst="rect">
            <a:avLst/>
          </a:prstGeom>
          <a:ln w="0">
            <a:noFill/>
          </a:ln>
        </p:spPr>
      </p:pic>
    </p:spTree>
  </p:cSld>
  <p:transition advTm="20000">
    <p:blinds dir="vert"/>
    <p:sndAc>
      <p:stSnd>
        <p:snd r:embed="rId3" name="KAMERA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2:55:04Z</dcterms:created>
  <dc:creator>Zwirchmayr Adalbert</dc:creator>
  <dc:description/>
  <dc:language>en-US</dc:language>
  <cp:lastModifiedBy>Mediatron</cp:lastModifiedBy>
  <dcterms:modified xsi:type="dcterms:W3CDTF">2007-05-11T11:03:18Z</dcterms:modified>
  <cp:revision>83</cp:revision>
  <dc:subject/>
  <dc:title>Innovationen die Z-Schraub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ediatron@tir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D:\Eigene Dateien 2\Innovatio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